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552-7F95-44C6-8982-1E8F0D00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CFA-5C1D-4F33-B2FD-80033C75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3B0-2F7B-48B7-A2F6-CC786AF8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BEC-61A5-452A-B6C9-8F0383EC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AA2-D5C8-4D29-8E80-0E13AAA2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AC7-8AD9-4D27-8B5C-E019DDC3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E62-1E4D-43C8-A219-3C3B6D26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7BF-BD33-4388-B66F-D1613FE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543-9FB9-42EF-869C-9A635BD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09C-CDA5-4393-963D-627A7A1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E5E-FF89-4B98-A72F-9B61091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98D-D720-4064-904C-2D56F1D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CFE-B595-4991-BBB1-DB70004C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Demi Cond"/>
              </a:rPr>
              <a:t>ARE YOU READY FOR THE ALPHABET QUIZ?</a:t>
            </a:r>
            <a:br>
              <a:rPr sz="4000"/>
            </a:b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Franklin Gothic Demi Cond"/>
              </a:rPr>
              <a:t>This is a quiz for kindergartners to help them quickly and easily recognize words that start with different letters of the alphabet!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BY: AMBER AWBREY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Click on the arrow to contin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3352680" y="5562720"/>
            <a:ext cx="2438640" cy="1066680"/>
          </a:xfrm>
          <a:custGeom>
            <a:avLst/>
            <a:gdLst>
              <a:gd name="textAreaLeft" fmla="*/ 69120 w 2438640"/>
              <a:gd name="textAreaRight" fmla="*/ 2369520 w 2438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9372" h="21600">
                <a:moveTo>
                  <a:pt x="0" y="0"/>
                </a:moveTo>
                <a:lnTo>
                  <a:pt x="49372" y="0"/>
                </a:lnTo>
                <a:lnTo>
                  <a:pt x="49372" y="21600"/>
                </a:lnTo>
                <a:lnTo>
                  <a:pt x="0" y="21600"/>
                </a:lnTo>
                <a:close/>
              </a:path>
              <a:path fill="lightenLess" w="49372" h="21600">
                <a:moveTo>
                  <a:pt x="0" y="0"/>
                </a:moveTo>
                <a:lnTo>
                  <a:pt x="49372" y="0"/>
                </a:lnTo>
                <a:lnTo>
                  <a:pt x="47972" y="1400"/>
                </a:lnTo>
                <a:lnTo>
                  <a:pt x="1400" y="1400"/>
                </a:lnTo>
                <a:close/>
              </a:path>
              <a:path fill="darken" w="49372" h="21600">
                <a:moveTo>
                  <a:pt x="49372" y="0"/>
                </a:moveTo>
                <a:lnTo>
                  <a:pt x="49372" y="21600"/>
                </a:lnTo>
                <a:lnTo>
                  <a:pt x="47972" y="20200"/>
                </a:lnTo>
                <a:lnTo>
                  <a:pt x="47972" y="1400"/>
                </a:lnTo>
                <a:close/>
              </a:path>
              <a:path fill="darkenLess" w="49372" h="21600">
                <a:moveTo>
                  <a:pt x="49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2" y="20200"/>
                </a:lnTo>
                <a:close/>
              </a:path>
              <a:path fill="lighten" w="49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2" h="21600">
                <a:moveTo>
                  <a:pt x="17680" y="3794"/>
                </a:moveTo>
                <a:lnTo>
                  <a:pt x="31693" y="10800"/>
                </a:lnTo>
                <a:lnTo>
                  <a:pt x="176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reat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word car starts with the lett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on the arrow to go to the next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2666880" y="4876920"/>
            <a:ext cx="3505320" cy="1676160"/>
          </a:xfrm>
          <a:custGeom>
            <a:avLst/>
            <a:gdLst>
              <a:gd name="textAreaLeft" fmla="*/ 108360 w 3505320"/>
              <a:gd name="textAreaRight" fmla="*/ 3396960 w 350532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45167" h="21600">
                <a:moveTo>
                  <a:pt x="0" y="0"/>
                </a:moveTo>
                <a:lnTo>
                  <a:pt x="45167" y="0"/>
                </a:lnTo>
                <a:lnTo>
                  <a:pt x="45167" y="21600"/>
                </a:lnTo>
                <a:lnTo>
                  <a:pt x="0" y="21600"/>
                </a:lnTo>
                <a:close/>
              </a:path>
              <a:path fill="lightenLess" w="45167" h="21600">
                <a:moveTo>
                  <a:pt x="0" y="0"/>
                </a:moveTo>
                <a:lnTo>
                  <a:pt x="45167" y="0"/>
                </a:lnTo>
                <a:lnTo>
                  <a:pt x="43767" y="1400"/>
                </a:lnTo>
                <a:lnTo>
                  <a:pt x="1400" y="1400"/>
                </a:lnTo>
                <a:close/>
              </a:path>
              <a:path fill="darken" w="45167" h="21600">
                <a:moveTo>
                  <a:pt x="45167" y="0"/>
                </a:moveTo>
                <a:lnTo>
                  <a:pt x="45167" y="21600"/>
                </a:lnTo>
                <a:lnTo>
                  <a:pt x="43767" y="20200"/>
                </a:lnTo>
                <a:lnTo>
                  <a:pt x="43767" y="1400"/>
                </a:lnTo>
                <a:close/>
              </a:path>
              <a:path fill="darkenLess" w="45167" h="21600">
                <a:moveTo>
                  <a:pt x="4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7" y="20200"/>
                </a:lnTo>
                <a:close/>
              </a:path>
              <a:path fill="lighten" w="4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7" h="21600">
                <a:moveTo>
                  <a:pt x="15577" y="3794"/>
                </a:moveTo>
                <a:lnTo>
                  <a:pt x="29590" y="10800"/>
                </a:lnTo>
                <a:lnTo>
                  <a:pt x="1557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words starts with the letter 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j0216724"/>
          <p:cNvPicPr/>
          <p:nvPr/>
        </p:nvPicPr>
        <p:blipFill>
          <a:blip r:embed="rId1"/>
          <a:stretch/>
        </p:blipFill>
        <p:spPr>
          <a:xfrm>
            <a:off x="4419720" y="259092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orry, that is not the correct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Please try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on the arrow to return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ques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2666880" y="4724280"/>
            <a:ext cx="3429000" cy="1752840"/>
          </a:xfrm>
          <a:custGeom>
            <a:avLst/>
            <a:gdLst>
              <a:gd name="textAreaLeft" fmla="*/ 113400 w 3429000"/>
              <a:gd name="textAreaRight" fmla="*/ 3315600 w 34290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42251" h="21600">
                <a:moveTo>
                  <a:pt x="0" y="0"/>
                </a:moveTo>
                <a:lnTo>
                  <a:pt x="42251" y="0"/>
                </a:lnTo>
                <a:lnTo>
                  <a:pt x="42251" y="21600"/>
                </a:lnTo>
                <a:lnTo>
                  <a:pt x="0" y="21600"/>
                </a:lnTo>
                <a:close/>
              </a:path>
              <a:path fill="lightenLess" w="42251" h="21600">
                <a:moveTo>
                  <a:pt x="0" y="0"/>
                </a:moveTo>
                <a:lnTo>
                  <a:pt x="42251" y="0"/>
                </a:lnTo>
                <a:lnTo>
                  <a:pt x="40851" y="1400"/>
                </a:lnTo>
                <a:lnTo>
                  <a:pt x="1400" y="1400"/>
                </a:lnTo>
                <a:close/>
              </a:path>
              <a:path fill="darken" w="42251" h="21600">
                <a:moveTo>
                  <a:pt x="42251" y="0"/>
                </a:moveTo>
                <a:lnTo>
                  <a:pt x="42251" y="21600"/>
                </a:lnTo>
                <a:lnTo>
                  <a:pt x="40851" y="20200"/>
                </a:lnTo>
                <a:lnTo>
                  <a:pt x="40851" y="1400"/>
                </a:lnTo>
                <a:close/>
              </a:path>
              <a:path fill="darkenLess" w="42251" h="21600">
                <a:moveTo>
                  <a:pt x="42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1" y="20200"/>
                </a:lnTo>
                <a:close/>
              </a:path>
              <a:path fill="lighten" w="42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1" h="21600">
                <a:moveTo>
                  <a:pt x="14119" y="10800"/>
                </a:moveTo>
                <a:lnTo>
                  <a:pt x="28132" y="3794"/>
                </a:lnTo>
                <a:lnTo>
                  <a:pt x="28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Great Job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he word dog starts with the letter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on the arrow to contin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3200400" y="4952880"/>
            <a:ext cx="3276720" cy="1524240"/>
          </a:xfrm>
          <a:custGeom>
            <a:avLst/>
            <a:gdLst>
              <a:gd name="textAreaLeft" fmla="*/ 98640 w 3276720"/>
              <a:gd name="textAreaRight" fmla="*/ 3178080 w 327672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46429" h="21600">
                <a:moveTo>
                  <a:pt x="0" y="0"/>
                </a:moveTo>
                <a:lnTo>
                  <a:pt x="46429" y="0"/>
                </a:lnTo>
                <a:lnTo>
                  <a:pt x="46429" y="21600"/>
                </a:lnTo>
                <a:lnTo>
                  <a:pt x="0" y="21600"/>
                </a:lnTo>
                <a:close/>
              </a:path>
              <a:path fill="lightenLess" w="46429" h="21600">
                <a:moveTo>
                  <a:pt x="0" y="0"/>
                </a:moveTo>
                <a:lnTo>
                  <a:pt x="46429" y="0"/>
                </a:lnTo>
                <a:lnTo>
                  <a:pt x="45029" y="1400"/>
                </a:lnTo>
                <a:lnTo>
                  <a:pt x="1400" y="1400"/>
                </a:lnTo>
                <a:close/>
              </a:path>
              <a:path fill="darken" w="46429" h="21600">
                <a:moveTo>
                  <a:pt x="46429" y="0"/>
                </a:moveTo>
                <a:lnTo>
                  <a:pt x="46429" y="21600"/>
                </a:lnTo>
                <a:lnTo>
                  <a:pt x="45029" y="20200"/>
                </a:lnTo>
                <a:lnTo>
                  <a:pt x="45029" y="1400"/>
                </a:lnTo>
                <a:close/>
              </a:path>
              <a:path fill="darkenLess" w="46429" h="21600">
                <a:moveTo>
                  <a:pt x="46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29" y="20200"/>
                </a:lnTo>
                <a:close/>
              </a:path>
              <a:path fill="lighten" w="46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29" h="21600">
                <a:moveTo>
                  <a:pt x="16208" y="3794"/>
                </a:moveTo>
                <a:lnTo>
                  <a:pt x="30221" y="10800"/>
                </a:lnTo>
                <a:lnTo>
                  <a:pt x="162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his is the end of the qu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Congratulations, you did a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great job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lease ask your teacher about what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o do nex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" action="ppaction://hlinkshowjump?jump=endshow"/>
          </p:cNvPr>
          <p:cNvSpPr/>
          <p:nvPr/>
        </p:nvSpPr>
        <p:spPr>
          <a:xfrm>
            <a:off x="3429000" y="5029200"/>
            <a:ext cx="1905120" cy="1523880"/>
          </a:xfrm>
          <a:custGeom>
            <a:avLst/>
            <a:gdLst>
              <a:gd name="textAreaLeft" fmla="*/ 98640 w 1905120"/>
              <a:gd name="textAreaRight" fmla="*/ 1806480 w 19051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7003" h="21600">
                <a:moveTo>
                  <a:pt x="0" y="0"/>
                </a:moveTo>
                <a:lnTo>
                  <a:pt x="27003" y="0"/>
                </a:lnTo>
                <a:lnTo>
                  <a:pt x="27003" y="21600"/>
                </a:lnTo>
                <a:lnTo>
                  <a:pt x="0" y="21600"/>
                </a:lnTo>
                <a:close/>
              </a:path>
              <a:path fill="lightenLess" w="27003" h="21600">
                <a:moveTo>
                  <a:pt x="0" y="0"/>
                </a:moveTo>
                <a:lnTo>
                  <a:pt x="27003" y="0"/>
                </a:lnTo>
                <a:lnTo>
                  <a:pt x="25603" y="1400"/>
                </a:lnTo>
                <a:lnTo>
                  <a:pt x="1400" y="1400"/>
                </a:lnTo>
                <a:close/>
              </a:path>
              <a:path fill="darken" w="27003" h="21600">
                <a:moveTo>
                  <a:pt x="27003" y="0"/>
                </a:moveTo>
                <a:lnTo>
                  <a:pt x="27003" y="21600"/>
                </a:lnTo>
                <a:lnTo>
                  <a:pt x="25603" y="20200"/>
                </a:lnTo>
                <a:lnTo>
                  <a:pt x="25603" y="1400"/>
                </a:lnTo>
                <a:close/>
              </a:path>
              <a:path fill="darkenLess" w="27003" h="21600">
                <a:moveTo>
                  <a:pt x="2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3" y="20200"/>
                </a:lnTo>
                <a:close/>
              </a:path>
              <a:path fill="lighten" w="2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3" h="21600">
                <a:moveTo>
                  <a:pt x="135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3" h="21600">
                <a:moveTo>
                  <a:pt x="14607" y="14281"/>
                </a:moveTo>
                <a:lnTo>
                  <a:pt x="14607" y="12323"/>
                </a:lnTo>
                <a:cubicBezTo>
                  <a:pt x="14607" y="11496"/>
                  <a:pt x="14937" y="10800"/>
                  <a:pt x="15538" y="10800"/>
                </a:cubicBezTo>
                <a:cubicBezTo>
                  <a:pt x="16669" y="10800"/>
                  <a:pt x="17566" y="9434"/>
                  <a:pt x="17566" y="7849"/>
                </a:cubicBezTo>
                <a:cubicBezTo>
                  <a:pt x="17566" y="5534"/>
                  <a:pt x="15712" y="3794"/>
                  <a:pt x="13501" y="3794"/>
                </a:cubicBezTo>
                <a:cubicBezTo>
                  <a:pt x="11291" y="3794"/>
                  <a:pt x="9619" y="5534"/>
                  <a:pt x="9619" y="7849"/>
                </a:cubicBezTo>
                <a:lnTo>
                  <a:pt x="11473" y="7849"/>
                </a:lnTo>
                <a:cubicBezTo>
                  <a:pt x="11473" y="6709"/>
                  <a:pt x="12396" y="5821"/>
                  <a:pt x="13501" y="5821"/>
                </a:cubicBezTo>
                <a:cubicBezTo>
                  <a:pt x="14607" y="5821"/>
                  <a:pt x="15538" y="6709"/>
                  <a:pt x="15538" y="7849"/>
                </a:cubicBezTo>
                <a:cubicBezTo>
                  <a:pt x="15538" y="8589"/>
                  <a:pt x="15068" y="9320"/>
                  <a:pt x="14607" y="9320"/>
                </a:cubicBezTo>
                <a:cubicBezTo>
                  <a:pt x="13501" y="9320"/>
                  <a:pt x="12396" y="10800"/>
                  <a:pt x="12396" y="12323"/>
                </a:cubicBezTo>
                <a:lnTo>
                  <a:pt x="1239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rds start with the letter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. Tree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.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.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217698"/>
          <p:cNvPicPr/>
          <p:nvPr/>
        </p:nvPicPr>
        <p:blipFill>
          <a:blip r:embed="rId4"/>
          <a:stretch/>
        </p:blipFill>
        <p:spPr>
          <a:xfrm>
            <a:off x="441972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Sorry, that is not the correct answer. Please try agai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Click on arrow to return to the 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>
            <a:hlinkClick r:id="rId1" action="ppaction://hlinksldjump"/>
          </p:cNvPr>
          <p:cNvSpPr/>
          <p:nvPr/>
        </p:nvSpPr>
        <p:spPr>
          <a:xfrm>
            <a:off x="3352680" y="4572000"/>
            <a:ext cx="2971800" cy="1600200"/>
          </a:xfrm>
          <a:custGeom>
            <a:avLst/>
            <a:gdLst>
              <a:gd name="textAreaLeft" fmla="*/ 103680 w 2971800"/>
              <a:gd name="textAreaRight" fmla="*/ 2868120 w 2971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10800"/>
                </a:moveTo>
                <a:lnTo>
                  <a:pt x="27062" y="3794"/>
                </a:lnTo>
                <a:lnTo>
                  <a:pt x="270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Great Job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The word apple starts with the letter A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Click on the arrow to go to the next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1" action="ppaction://hlinksldjump"/>
          </p:cNvPr>
          <p:cNvSpPr/>
          <p:nvPr/>
        </p:nvSpPr>
        <p:spPr>
          <a:xfrm>
            <a:off x="2971800" y="4800600"/>
            <a:ext cx="3429000" cy="1676520"/>
          </a:xfrm>
          <a:custGeom>
            <a:avLst/>
            <a:gdLst>
              <a:gd name="textAreaLeft" fmla="*/ 108360 w 3429000"/>
              <a:gd name="textAreaRight" fmla="*/ 3320640 w 34290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44174" h="21600">
                <a:moveTo>
                  <a:pt x="0" y="0"/>
                </a:moveTo>
                <a:lnTo>
                  <a:pt x="44174" y="0"/>
                </a:lnTo>
                <a:lnTo>
                  <a:pt x="44174" y="21600"/>
                </a:lnTo>
                <a:lnTo>
                  <a:pt x="0" y="21600"/>
                </a:lnTo>
                <a:close/>
              </a:path>
              <a:path fill="lightenLess" w="44174" h="21600">
                <a:moveTo>
                  <a:pt x="0" y="0"/>
                </a:moveTo>
                <a:lnTo>
                  <a:pt x="44174" y="0"/>
                </a:lnTo>
                <a:lnTo>
                  <a:pt x="42774" y="1400"/>
                </a:lnTo>
                <a:lnTo>
                  <a:pt x="1400" y="1400"/>
                </a:lnTo>
                <a:close/>
              </a:path>
              <a:path fill="darken" w="44174" h="21600">
                <a:moveTo>
                  <a:pt x="44174" y="0"/>
                </a:moveTo>
                <a:lnTo>
                  <a:pt x="44174" y="21600"/>
                </a:lnTo>
                <a:lnTo>
                  <a:pt x="42774" y="20200"/>
                </a:lnTo>
                <a:lnTo>
                  <a:pt x="42774" y="1400"/>
                </a:lnTo>
                <a:close/>
              </a:path>
              <a:path fill="darkenLess" w="44174" h="21600">
                <a:moveTo>
                  <a:pt x="44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4" y="20200"/>
                </a:lnTo>
                <a:close/>
              </a:path>
              <a:path fill="lighten" w="44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4" h="21600">
                <a:moveTo>
                  <a:pt x="15080" y="3794"/>
                </a:moveTo>
                <a:lnTo>
                  <a:pt x="29093" y="10800"/>
                </a:lnTo>
                <a:lnTo>
                  <a:pt x="150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itannic Bold"/>
              </a:rPr>
              <a:t>Which of the following words starts with the letter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Britannic Bold"/>
                <a:hlinkClick r:id="rId1" action="ppaction://hlinksldjump"/>
              </a:rPr>
              <a:t>A. Day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B.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.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299763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Sorry, that is not the correct answer. Please try again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Click on the arrow to return to 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743200" y="4038480"/>
            <a:ext cx="3657600" cy="2133720"/>
          </a:xfrm>
          <a:custGeom>
            <a:avLst/>
            <a:gdLst>
              <a:gd name="textAreaLeft" fmla="*/ 138240 w 3657600"/>
              <a:gd name="textAreaRight" fmla="*/ 3519360 w 365760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7024" h="21600">
                <a:moveTo>
                  <a:pt x="0" y="0"/>
                </a:moveTo>
                <a:lnTo>
                  <a:pt x="37024" y="0"/>
                </a:lnTo>
                <a:lnTo>
                  <a:pt x="37024" y="21600"/>
                </a:lnTo>
                <a:lnTo>
                  <a:pt x="0" y="21600"/>
                </a:lnTo>
                <a:close/>
              </a:path>
              <a:path fill="lightenLess" w="37024" h="21600">
                <a:moveTo>
                  <a:pt x="0" y="0"/>
                </a:moveTo>
                <a:lnTo>
                  <a:pt x="37024" y="0"/>
                </a:lnTo>
                <a:lnTo>
                  <a:pt x="35624" y="1400"/>
                </a:lnTo>
                <a:lnTo>
                  <a:pt x="1400" y="1400"/>
                </a:lnTo>
                <a:close/>
              </a:path>
              <a:path fill="darken" w="37024" h="21600">
                <a:moveTo>
                  <a:pt x="37024" y="0"/>
                </a:moveTo>
                <a:lnTo>
                  <a:pt x="37024" y="21600"/>
                </a:lnTo>
                <a:lnTo>
                  <a:pt x="35624" y="20200"/>
                </a:lnTo>
                <a:lnTo>
                  <a:pt x="35624" y="1400"/>
                </a:lnTo>
                <a:close/>
              </a:path>
              <a:path fill="darkenLess" w="37024" h="21600">
                <a:moveTo>
                  <a:pt x="3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4" y="20200"/>
                </a:lnTo>
                <a:close/>
              </a:path>
              <a:path fill="lighten" w="3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4" h="21600">
                <a:moveTo>
                  <a:pt x="11505" y="10800"/>
                </a:moveTo>
                <a:lnTo>
                  <a:pt x="25518" y="3794"/>
                </a:lnTo>
                <a:lnTo>
                  <a:pt x="255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Great Job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word ball starts with the letter B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ick on the arrow to go to the next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95480" y="4724280"/>
            <a:ext cx="3886200" cy="1828800"/>
          </a:xfrm>
          <a:custGeom>
            <a:avLst/>
            <a:gdLst>
              <a:gd name="textAreaLeft" fmla="*/ 118440 w 3886200"/>
              <a:gd name="textAreaRight" fmla="*/ 3767760 w 38862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45895" h="21600">
                <a:moveTo>
                  <a:pt x="0" y="0"/>
                </a:moveTo>
                <a:lnTo>
                  <a:pt x="45895" y="0"/>
                </a:lnTo>
                <a:lnTo>
                  <a:pt x="45895" y="21600"/>
                </a:lnTo>
                <a:lnTo>
                  <a:pt x="0" y="21600"/>
                </a:lnTo>
                <a:close/>
              </a:path>
              <a:path fill="lightenLess" w="45895" h="21600">
                <a:moveTo>
                  <a:pt x="0" y="0"/>
                </a:moveTo>
                <a:lnTo>
                  <a:pt x="45895" y="0"/>
                </a:lnTo>
                <a:lnTo>
                  <a:pt x="44495" y="1400"/>
                </a:lnTo>
                <a:lnTo>
                  <a:pt x="1400" y="1400"/>
                </a:lnTo>
                <a:close/>
              </a:path>
              <a:path fill="darken" w="45895" h="21600">
                <a:moveTo>
                  <a:pt x="45895" y="0"/>
                </a:moveTo>
                <a:lnTo>
                  <a:pt x="45895" y="21600"/>
                </a:lnTo>
                <a:lnTo>
                  <a:pt x="44495" y="20200"/>
                </a:lnTo>
                <a:lnTo>
                  <a:pt x="44495" y="1400"/>
                </a:lnTo>
                <a:close/>
              </a:path>
              <a:path fill="darkenLess" w="45895" h="21600">
                <a:moveTo>
                  <a:pt x="45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5" y="20200"/>
                </a:lnTo>
                <a:close/>
              </a:path>
              <a:path fill="lighten" w="45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95" h="21600">
                <a:moveTo>
                  <a:pt x="15941" y="3794"/>
                </a:moveTo>
                <a:lnTo>
                  <a:pt x="29954" y="10800"/>
                </a:lnTo>
                <a:lnTo>
                  <a:pt x="159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ich of the following words starts with the letter 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. Car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. 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.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j0212957"/>
          <p:cNvPicPr/>
          <p:nvPr/>
        </p:nvPicPr>
        <p:blipFill>
          <a:blip r:embed="rId1"/>
          <a:stretch/>
        </p:blipFill>
        <p:spPr>
          <a:xfrm>
            <a:off x="3429000" y="2743200"/>
            <a:ext cx="38116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Sorry, that is not the correct answer. Please 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Click on the arrow to return to the 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362320" y="4343400"/>
            <a:ext cx="3962160" cy="1828800"/>
          </a:xfrm>
          <a:custGeom>
            <a:avLst/>
            <a:gdLst>
              <a:gd name="textAreaLeft" fmla="*/ 118440 w 3962160"/>
              <a:gd name="textAreaRight" fmla="*/ 3843720 w 39621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46792" h="21600">
                <a:moveTo>
                  <a:pt x="0" y="0"/>
                </a:moveTo>
                <a:lnTo>
                  <a:pt x="46792" y="0"/>
                </a:lnTo>
                <a:lnTo>
                  <a:pt x="46792" y="21600"/>
                </a:lnTo>
                <a:lnTo>
                  <a:pt x="0" y="21600"/>
                </a:lnTo>
                <a:close/>
              </a:path>
              <a:path fill="lightenLess" w="46792" h="21600">
                <a:moveTo>
                  <a:pt x="0" y="0"/>
                </a:moveTo>
                <a:lnTo>
                  <a:pt x="46792" y="0"/>
                </a:lnTo>
                <a:lnTo>
                  <a:pt x="45392" y="1400"/>
                </a:lnTo>
                <a:lnTo>
                  <a:pt x="1400" y="1400"/>
                </a:lnTo>
                <a:close/>
              </a:path>
              <a:path fill="darken" w="46792" h="21600">
                <a:moveTo>
                  <a:pt x="46792" y="0"/>
                </a:moveTo>
                <a:lnTo>
                  <a:pt x="46792" y="21600"/>
                </a:lnTo>
                <a:lnTo>
                  <a:pt x="45392" y="20200"/>
                </a:lnTo>
                <a:lnTo>
                  <a:pt x="45392" y="1400"/>
                </a:lnTo>
                <a:close/>
              </a:path>
              <a:path fill="darkenLess" w="46792" h="21600">
                <a:moveTo>
                  <a:pt x="4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2" y="20200"/>
                </a:lnTo>
                <a:close/>
              </a:path>
              <a:path fill="lighten" w="4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2" h="21600">
                <a:moveTo>
                  <a:pt x="16390" y="10800"/>
                </a:moveTo>
                <a:lnTo>
                  <a:pt x="30403" y="3794"/>
                </a:lnTo>
                <a:lnTo>
                  <a:pt x="30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3:24:52Z</dcterms:created>
  <dc:creator>Zack Blackwell</dc:creator>
  <dc:description/>
  <dc:language>en-US</dc:language>
  <cp:lastModifiedBy>patron</cp:lastModifiedBy>
  <dcterms:modified xsi:type="dcterms:W3CDTF">2009-02-25T16:00:59Z</dcterms:modified>
  <cp:revision>33</cp:revision>
  <dc:subject/>
  <dc:title>Are You Ready For The Alphabet Quiz?  This is a quiz for kindergartners to help them learn about words that start with different letters of the alphabet!  BY: AMBER AWBREY  Click on the arrow to continue!</dc:title>
</cp:coreProperties>
</file>